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jpeg" ContentType="image/jpeg"/>
  <Override PartName="/ppt/media/image8.wmf" ContentType="image/x-wmf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C159-7932-4B74-A659-7B795787181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BACB-BAAA-4B5B-A49F-85485C46827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131A-C7B4-4C8B-9438-FE7A0950DA9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6547-B2CB-41F1-A439-449FF552106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F024-9334-497C-954F-7A4ADF7FB89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BCF8-7AF3-471F-86CF-9018241ACA6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E24C-9C3B-4AFE-8CB6-57E20FFD495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23C6-6D8D-4189-B4F7-1644E175CB1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AE08-534C-4999-B29B-852316443CB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4B45-2037-4C1A-A6F2-C0867767C81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0FE0-6FE7-408D-952D-CDA92A8A3D0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C419-3B05-4200-A53B-C18920A9E09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A940-7910-49FC-B699-6C3940BC835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F932-E21A-4473-9164-ABDB3BEAC5C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1DFD-F34C-40D2-BA32-A127C7B61DA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43FF-9A78-4A90-9CEA-5E3D55A623B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7FD5-672A-4700-9851-2E19077B455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6635-573B-4797-89F6-AF15E45F900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F841-BA7A-417D-AAFB-08C9010D15B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E01D-3A32-489D-A1BA-330E7DAE0E0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854E-E713-43E8-9FBA-648E49D3359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F692-E42E-46E1-B04B-B457C800DFD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A7E5-04DF-41E7-B336-7D3A1567E9A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B560-BB7B-40B6-B2B6-B4D56B897BB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90DA-DB39-40FC-AE3A-49A8772D8CF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C169-A111-4BE6-B8AB-FD44306055B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6C6B-5509-45B3-B223-A8B0D5C09D9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1C45-B66B-4256-AF79-236B3755646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9B26-F0A0-4A43-8EB9-CE037B06F6C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A9BE-9BC7-4CC5-B722-A58341E2B16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5D5E-866B-468E-BE89-AC1DEA25292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70B-D78B-4E63-9588-1752008F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4D4-80B0-461A-9B51-7E23C245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8D1-5D3E-4852-B9C5-0CA69289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F2D-7610-422B-B895-65B0DE4F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0D3C-8734-4CF7-AB5E-255EB8C0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B91-FDF4-4CF8-9FEF-019F0076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283-E275-4375-BFFA-479CB3A5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2DA-5D62-46E5-B29A-D6F96479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ECA-DE1D-4B7E-B4CF-164AACC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4B5-EA7B-4954-B438-5979A8A0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16E-7845-4487-81F5-FF4CC206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54D-14AA-4964-809F-60E7B824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B401-7515-4C07-A722-5DC7ECA6CB8D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</a:t>
            </a: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</a:rPr>
              <a:t>dýchacieho systému</a:t>
            </a:r>
            <a:br>
              <a:rPr sz="4400"/>
            </a:br>
            <a:br>
              <a:rPr sz="2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Ján Jakuš</a:t>
            </a:r>
            <a:br>
              <a:rPr sz="40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3508200" y="709560"/>
            <a:ext cx="48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Dum spiro, spero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Úloha bránice, medzirebrových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a prídatných dýchacích svalov 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(model-Paralelogra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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bránica </a:t>
            </a:r>
            <a:br>
              <a:rPr sz="24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prídatné svaly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medzirebrové (interkostálne) sval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(auxiliárne)                                  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vonkajšie -inspiračné           </a:t>
            </a:r>
            <a:br>
              <a:rPr sz="2400"/>
            </a:b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vnútorné  - exspiračné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3" descr="lungs"/>
          <p:cNvPicPr/>
          <p:nvPr/>
        </p:nvPicPr>
        <p:blipFill>
          <a:blip r:embed="rId1"/>
          <a:stretch/>
        </p:blipFill>
        <p:spPr>
          <a:xfrm>
            <a:off x="1042920" y="170028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0528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7667640" y="105264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867280" y="1341360"/>
            <a:ext cx="50508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956720" y="981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893080" y="1484280"/>
            <a:ext cx="250920" cy="504720"/>
          </a:xfrm>
          <a:custGeom>
            <a:avLst/>
            <a:gdLst>
              <a:gd name="textAreaLeft" fmla="*/ 35640 w 250920"/>
              <a:gd name="textAreaRight" fmla="*/ 215280 w 250920"/>
              <a:gd name="textAreaTop" fmla="*/ 288360 h 504720"/>
              <a:gd name="textAreaBottom" fmla="*/ 43272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Bránica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lavný inspiračný sval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dpovedá za 60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% zmeny objem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hrudníka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Počas pokojného dýchania klesá kaudálnym smerom asi o 1,5 cm, pri hlbokom nádychu však až o 7-13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m.intercostales externi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äčšenie predozadného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prieč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dych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. intercostales interni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-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kles rebier a zmenšenie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ýdyc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n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kt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 dej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xspírium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evažn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as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Pokoj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spôsobený pasívnym vytláčaním bránice smerom nahor a retrakčnou silou hrudného koša a pľúc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ánice </a:t>
            </a:r>
            <a:br>
              <a:rPr sz="40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. Intercostales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ext. a prídatných inspiračných svalov (krku a hrudník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).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ušných svalov (brušný lis) a mm.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intercostales interni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Mechanizmus pľúcnej ventilácie: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INSPÍRIU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kontrakcia bránice a  vonkajších medzir.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onka-dovnútra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inspiračný prietok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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inspiračný pľúcny objem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EXSPÍRIUM:</a:t>
            </a:r>
            <a:br>
              <a:rPr sz="32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sívny pohyb bránice nahor a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retrakčná sila pľúc a hrudníka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ľahko pozitívny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pri malej negativite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nútra-navonok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exspiračný prietok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exspiračný pľúcny objem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ÚSILNÉ INSPÍRIU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 (práca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vičenie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br>
              <a:rPr sz="32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silnenie sťahu bránice spolu s kontrakciou tzv. auxiliárnych inspiračných svalov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äčšia 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ýšenie inspiračného prietoku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výšenie množstva vdýchnutého pľúcneho objemu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ÚSILNÉ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EXSPÍRIUM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kašeľ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Kontrakci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brušných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nútorných medzir.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alov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zitívne hodnoty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Abd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,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eľký exspiračný prietok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veľký exspirovaný obje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ázn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pleurálneho tlaku, intrapulmonálneho tlaku, prietoku vzduchu a dychového objemu počas pokojného inspíria (insp) a exspíria (exsp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objemy</a:t>
            </a: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dychový objem (tidal volume V</a:t>
            </a:r>
            <a:r>
              <a:rPr b="1" i="1" lang="sk-SK" sz="28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T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= 0,5 l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n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I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= 2,5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E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= 1,0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ziduálny objem (RV)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                = 1,2 l</a:t>
            </a: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kolapsový vzduch 0,4 l + minimálny vzduch 0,8 l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0920" y="3141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34800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a4"/>
                </a:solidFill>
                <a:latin typeface="Times New Roman"/>
              </a:rPr>
              <a:t>I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8" descr="Obrázok2"/>
          <p:cNvPicPr/>
          <p:nvPr/>
        </p:nvPicPr>
        <p:blipFill>
          <a:blip r:embed="rId1"/>
          <a:stretch/>
        </p:blipFill>
        <p:spPr>
          <a:xfrm>
            <a:off x="468360" y="2997360"/>
            <a:ext cx="7920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 kapacity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itálna kapacita p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úc (V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+ IRV + ERV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nspir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kapacita (I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Fun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reziduá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a (FR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R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lk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pľúc (TL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vš. o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bjem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br>
              <a:rPr sz="3100"/>
            </a:br>
            <a:br>
              <a:rPr sz="31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87480" y="239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Obrázok2"/>
          <p:cNvPicPr/>
          <p:nvPr/>
        </p:nvPicPr>
        <p:blipFill>
          <a:blip r:embed="rId1"/>
          <a:stretch/>
        </p:blipFill>
        <p:spPr>
          <a:xfrm>
            <a:off x="539640" y="2781360"/>
            <a:ext cx="8064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oddajnosť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pľú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 (complianc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- 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je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zmena objem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(v l) sp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ô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sobená  zmenou tlaku (v kPa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4000"/>
            </a:br>
            <a:br>
              <a:rPr sz="40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N = 2l /kP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dosp.človek</a:t>
            </a:r>
            <a:br>
              <a:rPr sz="2800"/>
            </a:br>
            <a:br>
              <a:rPr sz="28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Fibróza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 </a:t>
            </a:r>
            <a:br>
              <a:rPr sz="2800"/>
            </a:b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Emfyzém</a:t>
            </a: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a dynamickej poddajnost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743200" y="2025720"/>
            <a:ext cx="58672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ka celkového prúdového odporu dýchacích ciest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(počítame ako pomer tlaku a prietoku)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(kPa .l .s</a:t>
            </a:r>
            <a:r>
              <a:rPr b="1" i="1" lang="sk-SK" sz="36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astma bronchiale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rozšírenie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dýchacích ciest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4114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Fyziologia vonkajšie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 vnútorné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ýchania</a:t>
            </a:r>
            <a:br>
              <a:rPr sz="4000"/>
            </a:br>
            <a:br>
              <a:rPr sz="4000"/>
            </a:b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Definícia: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Dýchanie (respirác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jedna z troch základných „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vitálnych“ funkcií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vého organizmu. Je to pe-riodický a rytmický proces vdycho-vania vzduchu (inspírium) a jeho vy-dychovania (exspírium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z dýchacích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iest a  z  p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úc, ktorý za 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dú minú-tu zabezpe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dospelému organiz-mu v kľude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rísun 250 ml 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dsun 200 ml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, potrebných na pokrytie jeho metabolických p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adavie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entilácia pľúc a distribúcia vzduchu</a:t>
            </a:r>
            <a:br>
              <a:rPr sz="4000"/>
            </a:br>
            <a:br>
              <a:rPr sz="40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MV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 f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Alveolárna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AV = M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 –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 f)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= 150 ml – mŕtvy objem)</a:t>
            </a:r>
            <a:br>
              <a:rPr sz="3100"/>
            </a:b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U dosp. človeka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pri  dychovom  objeme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500 ml a  frekvencii  dýchania  (f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12 dychov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edstavu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6  l.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, z čoho n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lveolárnu ventiláciu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ipadá 4,2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aximálna voluntárna ventilácia  (MMV )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je najväčší objem vzduchu preventilovaný pľú-cami za 1 minútu (120-170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526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a -Placeov zákon a úloha surfaktantu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2" descr="F:\ OPAVA obr. Fyziol\aplikacia Laplaceovho zakona ....jpg"/>
          <p:cNvPicPr/>
          <p:nvPr/>
        </p:nvPicPr>
        <p:blipFill>
          <a:blip r:embed="rId1"/>
          <a:stretch/>
        </p:blipFill>
        <p:spPr>
          <a:xfrm>
            <a:off x="611280" y="2781360"/>
            <a:ext cx="8281800" cy="36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 OPAVA obr. Fyziol\Laplaceov zakon.jpg"/>
          <p:cNvPicPr/>
          <p:nvPr/>
        </p:nvPicPr>
        <p:blipFill>
          <a:blip r:embed="rId2"/>
          <a:stretch/>
        </p:blipFill>
        <p:spPr>
          <a:xfrm>
            <a:off x="2484360" y="1197000"/>
            <a:ext cx="4103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tmosferický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vzduch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zmes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20,93%), 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C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(0,03 %), N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78,06 %), He a i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stop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ly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0,92%) a vod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á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r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ch v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závisia od atmosférického tlaku (P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Tento tlak klesá pri výstupe do výšok a s nim klesajú aj parciál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ri atmosferickom tlaku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101,3 kPa (760 torr ,1 atm,) a 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tlaku vodných pár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0,8 kPa (suchý vzduch)  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ny tlak  P0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21,06 kP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</a:rPr>
              <a:t>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0,04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kPa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altonov zákon</a:t>
            </a:r>
            <a:br>
              <a:rPr sz="40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latí</a:t>
            </a: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re v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ýpočet parciálnych tlakov dýchacích plynov v zmesi plynov : „čím vyššia je koncentrácia  plynu v zmesi plynov, tým väčší je jeho parciálny tlak“</a:t>
            </a:r>
            <a:br>
              <a:rPr sz="3200"/>
            </a:b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= V% 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x ( P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B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- PH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) / 100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pr. PO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v atmosferickom vzduchu pri hladine mora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j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e :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= 20,93 x (101,3 – 0,8) / 100 = 21,06 (kP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Obdobne počítam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0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P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,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N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j v alve-olárnom príp. v exspirovanom vzduchu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Zastúpenie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(v ob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%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a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ich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y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 kPa), spolu s 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om H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O, N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tm, v exspir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lveol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, ako aj v artério-ve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 venóznej krvi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828800"/>
          <a:ext cx="8686800" cy="4883040"/>
        </p:xfrm>
        <a:graphic>
          <a:graphicData uri="http://schemas.openxmlformats.org/drawingml/2006/table">
            <a:tbl>
              <a:tblPr/>
              <a:tblGrid>
                <a:gridCol w="1514520"/>
                <a:gridCol w="1058760"/>
                <a:gridCol w="1060560"/>
                <a:gridCol w="1060560"/>
                <a:gridCol w="1058760"/>
                <a:gridCol w="1257120"/>
                <a:gridCol w="1676520"/>
              </a:tblGrid>
              <a:tr h="87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H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N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a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mosf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(suchý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0,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0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9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0,04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spi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4,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5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7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veolár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,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1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3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tériov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9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2,7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nóz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4-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5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2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6,1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Line 199"/>
          <p:cNvSpPr/>
          <p:nvPr/>
        </p:nvSpPr>
        <p:spPr>
          <a:xfrm flipV="1">
            <a:off x="8317080" y="4581000"/>
            <a:ext cx="0" cy="20574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34"/>
          <p:cNvSpPr/>
          <p:nvPr/>
        </p:nvSpPr>
        <p:spPr>
          <a:xfrm>
            <a:off x="6300720" y="458136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ýmena dýchacích plynov</a:t>
            </a:r>
            <a:r>
              <a:rPr b="1" i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cez alve-olokapilárnu membránu prebieha formou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difúzie,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ktorá závisí od parciálnych tlakov jednotlivých plynov (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C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) v alveolárnom vzduchu a v kapilárnom pľúcnom riečišti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100"/>
            </a:br>
            <a:br>
              <a:rPr sz="31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i difúzii: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pre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13,4 – 5,2 =  8 (kPa)  t.j.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100 – 40 = 60 (torr)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e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6,13–5,33 = 0,8 (kPa)  t.j.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C0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46 - 40 = 6 (torr)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 pľúcach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- morfológia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4" descr="fig15-3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cez alveolokapilárnu membránu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diffusion"/>
          <p:cNvPicPr/>
          <p:nvPr/>
        </p:nvPicPr>
        <p:blipFill>
          <a:blip r:embed="rId1"/>
          <a:stretch/>
        </p:blipFill>
        <p:spPr>
          <a:xfrm>
            <a:off x="684360" y="134136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fúzi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a C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ez alveolokapilár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(AK)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embrá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a riadi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ickov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y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zákon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 =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(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1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– 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2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) .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. k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s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kd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a 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ú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arciál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tla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y plynov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difúzna p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loch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(70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</a:rPr>
              <a:t>)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 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rúbka membrány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0,8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um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 -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závisí od zloženia mem-brány a druhu difundujúceho plynu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je rýchlosť difúzie 20-krát väčšia ako 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napr.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V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= 15 – 20 ml / min.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a VCO2=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350 – 400 ml/ mi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ynamika difúzie cez AK membrán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3" descr="alveoli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29052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natómia dýchacieho systému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76360" y="836640"/>
            <a:ext cx="633564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s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5" descr="Cardiorespiratory system"/>
          <p:cNvPicPr/>
          <p:nvPr/>
        </p:nvPicPr>
        <p:blipFill>
          <a:blip r:embed="rId1"/>
          <a:stretch/>
        </p:blipFill>
        <p:spPr>
          <a:xfrm>
            <a:off x="1619280" y="1125360"/>
            <a:ext cx="6048360" cy="50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16440"/>
            <a:ext cx="89154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Rozpustnosť plynov v krvnej plazme</a:t>
            </a:r>
            <a:br>
              <a:rPr sz="36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enryho záko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množstvo plynu fyzikálne rozpustného v kvapaline je úmerné parciál-nemu tlaku plynu nad kvapalinou a jeho koe-ficientu rozpustnosti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Množstv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rozpusten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é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v 1 l krvi: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 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   = 3,0 ml/l krvi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nožstv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 1l krvi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: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27ml/l krvi.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kde </a:t>
            </a:r>
            <a:r>
              <a:rPr b="1" i="1" lang="sk-SK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koeficient rozpustnosti,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parciálny  tlak  plynu  a  P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celkový  barometrický  tlak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Koeficient rozpustnosti </a:t>
            </a:r>
            <a:r>
              <a:rPr b="1" lang="sk-SK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re 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= 0,024 a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re 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= 0,57.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ozpustnosť CO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v krvi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cca 24x väčšia ako kyslíka.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ERFÚZIA - transport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a 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rvo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fyzikálne rozpustený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 plazm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 che-micky viazaný na hemoglobín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100"/>
            </a:br>
            <a:br>
              <a:rPr sz="28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1 l artériovej krvi  je  200 m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ho 3 ml pripadajú na fyzikálne rozpustený 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197 ml je chemicky viazané na hemoglobín. 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Fyzikálne rozpustený O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1" i="1" lang="sk-SK" sz="4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→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parciálny tlak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ystupuje ak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fyzikálne rozpustený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v plazme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chemicky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viazaný vo forme bikar-bonátov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arbamin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hemoglobín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V 1 l venóznej krvi je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ml fyzikálne rozpust. C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(v plazme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byto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cc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520 ml je viazaný v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statných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dvoch formách. 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9040"/>
            <a:ext cx="876312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Hlavn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funkci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dýchani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roces výmeny plynov medzi bunkami a vonkaj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ím prostredím, t.j. transport kyslíka z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vonkajšieho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vzduchu do buniek tela a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odvod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oxidu uhli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itého z buniek do atmosféry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ýchanie  vonkajšie a vnútorné 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héma respirácie</a:t>
            </a: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8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onkajšie dýchanie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zahrňuje 4 hlavné procesy: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pľúcnu ventiláci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stribúc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vzduchu(miešanie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fúz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plynov</a:t>
            </a:r>
            <a:br>
              <a:rPr sz="4000"/>
            </a:br>
            <a:r>
              <a:rPr b="0" lang="sk-SK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erfúziu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pľúc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transport dýcha- </a:t>
            </a:r>
            <a:br>
              <a:rPr sz="4000"/>
            </a:b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                         cích plynov krv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0480"/>
            <a:ext cx="8915400" cy="67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entilá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yklick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ýme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zduchu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ľúcach počas v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inspíria) a vý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exspír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abezpečená kontrakciou dýchacích svalov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stribú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iešanie inspirovaného vzduchu so vzduchom, ktorý zostal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 dýchacích cestách a v pľúcach 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 výdych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150 ml = anatomický mŕtvy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iestor u dospelého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stup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 smere tlakového gradientu cez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alveo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lokapilár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embrán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(Fickov zákon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er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cirkulác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krvi pľúcnym riečišťom –transport plynov krvou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nútorné dýchanie, resp. tkanivová respiráci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dstavuje difúzi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medzi krvou a tkanivami v smere gradientu parciálnych tlakov na urovni kapilár.</a:t>
            </a:r>
            <a:br>
              <a:rPr sz="3600"/>
            </a:b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Vonkajšie (pľúcne) a vnútorné (tkanivové)</a:t>
            </a: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yžaduj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ormál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funkciu kardiovaskulár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(KV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aparát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entrál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nervo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é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systé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– CNS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mozog a miech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chanika dýchani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odnotí činnosť dých. svalov, hrudného koša a pľúc pre dýchaní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</a:rPr>
              <a:t>Pľúca nemajú svaly!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úden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v dý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estách j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dmienené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ový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rozdiel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medzi atmosférou a alveolami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Inspírium -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nych je n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í ako v atmosfére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x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 prevy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atmosferický tla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spontánne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je „podtlakové“.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Umelé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je „pretlakové“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dtlak a pretlak v hrudník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– s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ýsledkom kontrakcie dých. svalov : bránice (diaphragma) a svalov medzi-rebrových (vonkajších a vnútorných)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10Z</dcterms:modified>
  <cp:revision>334</cp:revision>
  <dc:subject/>
  <dc:title>Úvod</dc:title>
</cp:coreProperties>
</file>